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A63-3B1A-4150-AF0B-9E942538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E38-AD9C-46AA-A30E-9679BCA3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38A-6306-4F2B-BA02-D5D6C16D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7A6-A56A-4098-BBA7-707816BC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DCC-BA64-4C6F-9C7A-659EFEAB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2C7-E0A7-43C1-B7E2-A28445B7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D29-5EAD-40E7-A2CA-A8A9BEDA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70E-EF82-4C12-8F00-AB17F805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B46-BA0F-4AE6-BBC1-436C6E5E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566-BCCC-4BC2-B33C-972A82A6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EBB-D808-43AA-83AB-4656ACCC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6EB-F3ED-4DF3-8BFF-8528A8B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9FC1-3836-4084-9B11-DBED64464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26920" y="907920"/>
            <a:ext cx="7191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ÖZLER GÖRMEZSE GÖNÜL NASIL GÖRÜR ?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-252360" y="3716280"/>
            <a:ext cx="90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u soruya yüzyıllar boyu cevap aradık.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>
            <a:hlinkClick r:id="" action="ppaction://hlinkshowjump?jump=firstslide"/>
            <a:hlinkClick r:id="rId3"/>
          </p:cNvPr>
          <p:cNvSpPr/>
          <p:nvPr/>
        </p:nvSpPr>
        <p:spPr>
          <a:xfrm>
            <a:off x="8423280" y="6075360"/>
            <a:ext cx="720720" cy="782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82640"/>
              <a:gd name="textAreaBottom" fmla="*/ 736200 h 782640"/>
            </a:gdLst>
            <a:ahLst/>
            <a:rect l="textAreaLeft" t="textAreaTop" r="textAreaRight" b="textAreaBottom"/>
            <a:pathLst>
              <a:path w="21600" h="23455">
                <a:moveTo>
                  <a:pt x="0" y="0"/>
                </a:moveTo>
                <a:lnTo>
                  <a:pt x="21600" y="0"/>
                </a:lnTo>
                <a:lnTo>
                  <a:pt x="21600" y="23455"/>
                </a:lnTo>
                <a:lnTo>
                  <a:pt x="0" y="23455"/>
                </a:lnTo>
                <a:close/>
              </a:path>
              <a:path fill="lightenLess" w="21600" h="23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55">
                <a:moveTo>
                  <a:pt x="21600" y="0"/>
                </a:moveTo>
                <a:lnTo>
                  <a:pt x="21600" y="23455"/>
                </a:lnTo>
                <a:lnTo>
                  <a:pt x="20200" y="22055"/>
                </a:lnTo>
                <a:lnTo>
                  <a:pt x="20200" y="1400"/>
                </a:lnTo>
                <a:close/>
              </a:path>
              <a:path fill="darkenLess" w="21600" h="23455">
                <a:moveTo>
                  <a:pt x="21600" y="23455"/>
                </a:moveTo>
                <a:lnTo>
                  <a:pt x="0" y="23455"/>
                </a:lnTo>
                <a:lnTo>
                  <a:pt x="1400" y="22055"/>
                </a:lnTo>
                <a:lnTo>
                  <a:pt x="20200" y="22055"/>
                </a:lnTo>
                <a:close/>
              </a:path>
              <a:path fill="lighten" w="21600" h="23455">
                <a:moveTo>
                  <a:pt x="0" y="23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55"/>
                </a:lnTo>
                <a:close/>
              </a:path>
              <a:path fill="darken" w="21600" h="23455">
                <a:moveTo>
                  <a:pt x="10800" y="4764"/>
                </a:moveTo>
                <a:lnTo>
                  <a:pt x="13376" y="7376"/>
                </a:lnTo>
                <a:lnTo>
                  <a:pt x="13376" y="5635"/>
                </a:lnTo>
                <a:lnTo>
                  <a:pt x="15152" y="5635"/>
                </a:lnTo>
                <a:lnTo>
                  <a:pt x="15152" y="9151"/>
                </a:lnTo>
                <a:lnTo>
                  <a:pt x="17763" y="11727"/>
                </a:lnTo>
                <a:lnTo>
                  <a:pt x="16109" y="11727"/>
                </a:lnTo>
                <a:lnTo>
                  <a:pt x="16109" y="18917"/>
                </a:lnTo>
                <a:lnTo>
                  <a:pt x="5491" y="18917"/>
                </a:lnTo>
                <a:lnTo>
                  <a:pt x="5491" y="11727"/>
                </a:lnTo>
                <a:lnTo>
                  <a:pt x="3837" y="11727"/>
                </a:lnTo>
                <a:close/>
              </a:path>
              <a:path fill="darkenLess" w="21600" h="23455">
                <a:moveTo>
                  <a:pt x="13376" y="7376"/>
                </a:moveTo>
                <a:lnTo>
                  <a:pt x="13376" y="5635"/>
                </a:lnTo>
                <a:lnTo>
                  <a:pt x="15152" y="5635"/>
                </a:lnTo>
                <a:lnTo>
                  <a:pt x="15152" y="9151"/>
                </a:lnTo>
                <a:close/>
              </a:path>
              <a:path fill="darkenLess" w="21600" h="23455">
                <a:moveTo>
                  <a:pt x="9877" y="15226"/>
                </a:moveTo>
                <a:lnTo>
                  <a:pt x="11723" y="15226"/>
                </a:lnTo>
                <a:lnTo>
                  <a:pt x="11723" y="18917"/>
                </a:lnTo>
                <a:lnTo>
                  <a:pt x="16109" y="18917"/>
                </a:lnTo>
                <a:lnTo>
                  <a:pt x="16109" y="11727"/>
                </a:lnTo>
                <a:lnTo>
                  <a:pt x="5491" y="11727"/>
                </a:lnTo>
                <a:lnTo>
                  <a:pt x="5491" y="18917"/>
                </a:lnTo>
                <a:lnTo>
                  <a:pt x="9877" y="189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34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3213000"/>
            <a:ext cx="8445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DOSTLAR BENİ HATIRL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SAZIMDAN SES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DEYİŞ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1403280" y="333360"/>
            <a:ext cx="61452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SERLERİ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ŞK VY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7"/>
          <p:cNvSpPr txBox="1"/>
          <p:nvPr/>
        </p:nvSpPr>
        <p:spPr>
          <a:xfrm>
            <a:off x="0" y="5589720"/>
            <a:ext cx="9144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İM SADIK YARİM KARA TOPRAKTIR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075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ünümüzde de halk şiiri aynı özellikleriyle devam etmekt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şıklar köy köy Anadolu’yu gezer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dyo,televizyon,CD araçlarını kullanır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HSUNİ ŞERİF,NEŞAT ERTAŞ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826920" y="260280"/>
            <a:ext cx="7315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ÜNÜMÜZDE DE HALK ŞAİRİ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AR MIDIR 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87_asik_veysel_0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97" name="WordArt 8"/>
          <p:cNvSpPr txBox="1"/>
          <p:nvPr/>
        </p:nvSpPr>
        <p:spPr>
          <a:xfrm>
            <a:off x="250920" y="260280"/>
            <a:ext cx="871380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ZUN İNCE BİR YOLDAYIM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İLETİŞİM BECERİLER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ARATICIL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NTELEKTÜEL MER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EDYA OKUR-YAZAR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OSYAL SORUMLULU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KİŞİLERARASI İŞBİRLİĞ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1187280" y="549360"/>
            <a:ext cx="705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1.YÜZYIL BECERİLERİ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611280" y="476280"/>
            <a:ext cx="773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İLGİNİZ İÇİN TEŞEKKÜRLER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Picture 6" descr="AŞİK"/>
          <p:cNvPicPr/>
          <p:nvPr/>
        </p:nvPicPr>
        <p:blipFill>
          <a:blip r:embed="rId1"/>
          <a:stretch/>
        </p:blipFill>
        <p:spPr>
          <a:xfrm>
            <a:off x="1476360" y="1700280"/>
            <a:ext cx="590400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755640" y="476280"/>
            <a:ext cx="7488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UCA ANADOLU LİSESİ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900000" y="2492280"/>
            <a:ext cx="72723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OZANLA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özlü edebiyat ürünleri müzikle birleşir 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özlü edebiyat ürünleri nasıl aktarılı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im ürünlerden başka neler v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763640" y="476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ÜNİTE SORULAR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569440" y="6219720"/>
            <a:ext cx="574560" cy="638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38280"/>
              <a:gd name="textAreaBottom" fmla="*/ 601200 h 63828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3794" y="4991"/>
                </a:moveTo>
                <a:lnTo>
                  <a:pt x="17806" y="11997"/>
                </a:lnTo>
                <a:lnTo>
                  <a:pt x="3794" y="190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808000" y="4653000"/>
            <a:ext cx="6335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Halk şairi ne demekt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şık Veysel kim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şık Veysel’in eserleri neler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Günümüzde de halk şairi var mıdı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332000" y="333360"/>
            <a:ext cx="648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İÇERİK SORULAR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324000" y="628164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04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Arial"/>
              </a:rPr>
              <a:t>Halk şairi yüzyıllar öncesinden beri varlığını sürdüren, eskiden ozan-kam-bahşı-şaman dediğimiz sanatçılarımız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Arial"/>
              </a:rPr>
              <a:t>Eserlerini saz (eskiden kopuz ) eşliğinde söyler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1403280" y="404640"/>
            <a:ext cx="612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ALK ŞAİRİ NE DEMEKTİR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7667640" y="630864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3794" y="11024"/>
                </a:moveTo>
                <a:lnTo>
                  <a:pt x="17806" y="4017"/>
                </a:lnTo>
                <a:lnTo>
                  <a:pt x="17806" y="180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ASIK%20VEYSEL%20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604360" y="628164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3794" y="4528"/>
                </a:moveTo>
                <a:lnTo>
                  <a:pt x="17806" y="11534"/>
                </a:lnTo>
                <a:lnTo>
                  <a:pt x="3794" y="185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Sivas – Şarkışla – Sivrialan  köyünde doğmuştur.Çocukken gözlerini kaybeder. Saz çalmaya hevesl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1931 yılında Ahmet Kutsi Tecer tarafından keşfedilir.Anadolu’da konserler verir, radyo programları yapar, konservatuarda dersler ve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1965’te TBMM , 500 lira aylık bağ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187280" y="404640"/>
            <a:ext cx="698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ŞIK VEYSEL KİMDİR ?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84000" cy="69228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61">
                <a:moveTo>
                  <a:pt x="0" y="0"/>
                </a:moveTo>
                <a:lnTo>
                  <a:pt x="21600" y="0"/>
                </a:lnTo>
                <a:lnTo>
                  <a:pt x="21600" y="21861"/>
                </a:lnTo>
                <a:lnTo>
                  <a:pt x="0" y="21861"/>
                </a:lnTo>
                <a:close/>
              </a:path>
              <a:path fill="lightenLess" w="21600" h="218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1">
                <a:moveTo>
                  <a:pt x="21600" y="0"/>
                </a:moveTo>
                <a:lnTo>
                  <a:pt x="21600" y="21861"/>
                </a:lnTo>
                <a:lnTo>
                  <a:pt x="20200" y="20461"/>
                </a:lnTo>
                <a:lnTo>
                  <a:pt x="20200" y="1400"/>
                </a:lnTo>
                <a:close/>
              </a:path>
              <a:path fill="darkenLess" w="21600" h="21861">
                <a:moveTo>
                  <a:pt x="21600" y="21861"/>
                </a:moveTo>
                <a:lnTo>
                  <a:pt x="0" y="21861"/>
                </a:lnTo>
                <a:lnTo>
                  <a:pt x="1400" y="20461"/>
                </a:lnTo>
                <a:lnTo>
                  <a:pt x="20200" y="20461"/>
                </a:lnTo>
                <a:close/>
              </a:path>
              <a:path fill="lighten" w="21600" h="21861">
                <a:moveTo>
                  <a:pt x="0" y="218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1"/>
                </a:lnTo>
                <a:close/>
              </a:path>
              <a:path fill="darken" w="21600" h="21861">
                <a:moveTo>
                  <a:pt x="3794" y="3924"/>
                </a:moveTo>
                <a:lnTo>
                  <a:pt x="17806" y="10931"/>
                </a:lnTo>
                <a:lnTo>
                  <a:pt x="3794" y="179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qwertyuıopüüüüüüüüüüüüüüüü,,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6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şık Veysel; Anadolu, toprak sevgisi, köy sorunları ve acılı hayatını iş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Halk şairi geleneğini devam etti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nadolu’yu köy köy , kahve kahve ge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İki şeye çok üzülü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skere gidemem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tatürk’e yazdığı destanı okuyamamak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1619280" y="26028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DEBİ ŞAHSİYETİ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yewolşnnnnny"/>
          <p:cNvPicPr/>
          <p:nvPr/>
        </p:nvPicPr>
        <p:blipFill>
          <a:blip r:embed="rId1"/>
          <a:stretch/>
        </p:blipFill>
        <p:spPr>
          <a:xfrm>
            <a:off x="-468360" y="-531720"/>
            <a:ext cx="9612360" cy="73897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2916360" y="508464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OST DOST DİYE DİY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</a:t>
            </a:r>
            <a:r>
              <a:rPr b="0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İCESİNE SARILDIM</a:t>
            </a:r>
            <a:endParaRPr b="0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21:36:23Z</dcterms:created>
  <dc:creator>TOSHIBA</dc:creator>
  <dc:description/>
  <dc:language>en-US</dc:language>
  <cp:lastModifiedBy>Sekreter</cp:lastModifiedBy>
  <dcterms:modified xsi:type="dcterms:W3CDTF">2011-01-06T13:55:33Z</dcterms:modified>
  <cp:revision>3</cp:revision>
  <dc:subject/>
  <dc:title>Slayt 1</dc:title>
</cp:coreProperties>
</file>